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4.jpeg" ContentType="image/jpeg"/>
  <Override PartName="/ppt/media/image2.png" ContentType="image/png"/>
  <Override PartName="/ppt/media/image13.wmf" ContentType="image/x-wmf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9.wmf" ContentType="image/x-wmf"/>
  <Override PartName="/ppt/media/image6.wmf" ContentType="image/x-wmf"/>
  <Override PartName="/ppt/media/image11.wmf" ContentType="image/x-wmf"/>
  <Override PartName="/ppt/media/image17.jpeg" ContentType="image/jpeg"/>
  <Override PartName="/ppt/media/image8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7F94-CA49-4765-86BD-9385BE16D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A18C-E29C-4777-97AB-B14F3949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1A5D-387D-4377-955E-D261DAE8D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894F-1D14-4393-B61F-04ADCE2EB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7948-B137-4DAF-A9C8-625C1BB5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9CA3-0E4D-4ADD-B6AD-E9F085D2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F2DB-DF13-4574-B338-DED90177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4FB5-3022-4ED4-A2A9-9013CEDF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B39B-3BDB-41BA-AE44-57227E8E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7200-E546-423A-910A-720815E8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25AA-A566-4137-98BC-73B49355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A60E-25FB-4C31-8196-2C87E021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FD62-68FF-4BC7-A89E-E59A755C1124}" type="slidenum">
              <a:rPr b="0" lang="en-I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4200" y="4038480"/>
            <a:ext cx="499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University of Mining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and Metallu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Krakow Po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http://www.cs.agh.edu.p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ABSLOGO4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6248160" cy="1219320"/>
          </a:xfrm>
          <a:prstGeom prst="rect">
            <a:avLst/>
          </a:prstGeom>
          <a:ln w="0">
            <a:noFill/>
          </a:ln>
        </p:spPr>
      </p:pic>
      <p:pic>
        <p:nvPicPr>
          <p:cNvPr id="45" name="logo" descr=""/>
          <p:cNvPicPr/>
          <p:nvPr/>
        </p:nvPicPr>
        <p:blipFill>
          <a:blip r:embed="rId2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5520" y="434880"/>
            <a:ext cx="844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Bng - A new concept</a:t>
            </a: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 of Active Badg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System desig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43120" y="2819520"/>
            <a:ext cx="61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 template for 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positor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ies of observable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745280" y="373392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Light-weight notification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76880" y="464832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 concept of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292104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474984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383544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87440" y="201600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21240" y="1905120"/>
            <a:ext cx="61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w robust plug-and-play poller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2743200"/>
            <a:ext cx="7391520" cy="685800"/>
          </a:xfrm>
          <a:prstGeom prst="rect">
            <a:avLst/>
          </a:prstGeom>
          <a:noFill/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0880" y="304920"/>
            <a:ext cx="635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ntity and repository templ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32560" y="1143000"/>
            <a:ext cx="7173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 of entities possess dynamic attributes (A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tity notifies registered observers of changes of its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universal repository template has been identified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plem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pository enables access to its entities throug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object references (COR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pository possesses a sophisticated search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gistration of an observer in a set of entities in a sing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mote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2120" y="129528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" y="198108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120" y="266688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380988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2120" y="563868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487692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286000" y="1143000"/>
            <a:ext cx="4419720" cy="49528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520000" y="1295280"/>
            <a:ext cx="39848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nterface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ntity_Rep: Entity_Rep_Observed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ypedef sequenc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&lt;Entity&gt; Entitie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adonly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attribute Entities entity_lis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ntity add   ( 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voi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update (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void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remove (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ntities find (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ntity::Value_Descriptons find_values (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ntities complex_query (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47920" y="304920"/>
            <a:ext cx="619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Repository interface templ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04920" y="1219320"/>
            <a:ext cx="4190760" cy="472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8320" y="1219320"/>
            <a:ext cx="4190760" cy="472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40360" y="1371600"/>
            <a:ext cx="35640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Entity: Entity_Observed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Entity_Commander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truc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Description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ype1 attribut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//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ypeN attribue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ypedef sequenc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&lt;Description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Descriptio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truc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Value_Description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ype1:: Value_attribute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//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ypeN::Value_ attribue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ypedef sequenc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&lt;Value_Description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Value_Descriptio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1371600"/>
            <a:ext cx="42098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struc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Pattern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boolean is_an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ype1::Pattern attribute1_pat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//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TypeN:: Pattern attributeN_pat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adonly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attribute Repository_Item_Id item_i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adonly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attribute Description desc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adonly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attribute Type1 attribute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//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adonly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attribute TypeN attribute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133720" y="380880"/>
            <a:ext cx="520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Entity interface templ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4724280" y="1295280"/>
            <a:ext cx="4191120" cy="18288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1295280"/>
            <a:ext cx="4191120" cy="5029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286720" y="380880"/>
            <a:ext cx="406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Bng Reposito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51560" y="1336680"/>
            <a:ext cx="29833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Bng_Location_Des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dge_Ho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c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cation_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cation_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ta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91320" y="144792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ime 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cation A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udio De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perty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520" y="434880"/>
            <a:ext cx="844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Bng - A new concept</a:t>
            </a: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 of Active Badg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System desig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43120" y="2819520"/>
            <a:ext cx="61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 template for 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positor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ies of observable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745640" y="3733920"/>
            <a:ext cx="56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Notification mechanism with  QoS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76880" y="464832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 concept of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371600" y="292104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71600" y="474984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71600" y="383544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387440" y="201600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821240" y="1905120"/>
            <a:ext cx="61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w robust plug-and-play poller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3657600"/>
            <a:ext cx="7391160" cy="685800"/>
          </a:xfrm>
          <a:prstGeom prst="rect">
            <a:avLst/>
          </a:prstGeom>
          <a:noFill/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61720" y="304920"/>
            <a:ext cx="458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Notification mechan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286000" y="1523880"/>
            <a:ext cx="2286000" cy="358164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362320" y="2286000"/>
            <a:ext cx="914400" cy="30492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ntity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81280" y="2209680"/>
            <a:ext cx="838440" cy="7621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O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O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O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93480" y="1600200"/>
            <a:ext cx="14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ist of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bser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2320" y="3124080"/>
            <a:ext cx="914400" cy="30492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ntity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3048120"/>
            <a:ext cx="838440" cy="990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O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O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OR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O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81280" y="4114800"/>
            <a:ext cx="838440" cy="7621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O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O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O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76720" y="24382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76720" y="3276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63760" y="4114800"/>
            <a:ext cx="12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List of A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bser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48520" y="1523880"/>
            <a:ext cx="493560" cy="409680"/>
          </a:xfrm>
          <a:prstGeom prst="ellips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248520" y="2133720"/>
            <a:ext cx="492120" cy="409320"/>
          </a:xfrm>
          <a:prstGeom prst="ellips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48520" y="2743200"/>
            <a:ext cx="492120" cy="409680"/>
          </a:xfrm>
          <a:prstGeom prst="ellips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248520" y="4038480"/>
            <a:ext cx="492120" cy="409680"/>
          </a:xfrm>
          <a:prstGeom prst="ellips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48520" y="3429000"/>
            <a:ext cx="492120" cy="409680"/>
          </a:xfrm>
          <a:prstGeom prst="ellips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48520" y="4648320"/>
            <a:ext cx="492120" cy="409320"/>
          </a:xfrm>
          <a:prstGeom prst="ellips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4267080" y="1676160"/>
            <a:ext cx="1981440" cy="6094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4267080" y="2361960"/>
            <a:ext cx="1981440" cy="2286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267080" y="2895480"/>
            <a:ext cx="1981440" cy="763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1120" y="3200400"/>
            <a:ext cx="2133360" cy="9144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191120" y="1828440"/>
            <a:ext cx="2057400" cy="16002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267080" y="3657600"/>
            <a:ext cx="2057400" cy="763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267080" y="1904760"/>
            <a:ext cx="2057400" cy="236196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4267080" y="2437920"/>
            <a:ext cx="2057400" cy="20574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267080" y="2971800"/>
            <a:ext cx="1981440" cy="17524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364400" y="525780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tity Observers are notified on update and re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dd Observers are notified on each addition of a new 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bservers’ lists are persis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87080" y="472428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0066"/>
                </a:solidFill>
                <a:latin typeface="Times New Roman"/>
              </a:rPr>
              <a:t>Reposi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90720" y="533412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90720" y="609588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90720" y="571500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267080" y="3962520"/>
            <a:ext cx="1981440" cy="8380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35520" y="434880"/>
            <a:ext cx="844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Bng - A new concept</a:t>
            </a: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 of Active Badg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System desig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743120" y="2819520"/>
            <a:ext cx="61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 template for 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positor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ies of observable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45280" y="373392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Light-weight notification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76880" y="464832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 concept of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71600" y="292104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71600" y="474984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383544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387440" y="201600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21240" y="1905120"/>
            <a:ext cx="61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w robust plug-and-play poller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14400" y="4572000"/>
            <a:ext cx="7391520" cy="685800"/>
          </a:xfrm>
          <a:prstGeom prst="rect">
            <a:avLst/>
          </a:prstGeom>
          <a:noFill/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32680" y="457200"/>
            <a:ext cx="722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View - a major new abstr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98880" y="2016000"/>
            <a:ext cx="728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Enables tracing of selected locations and locatabl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91320" y="2743200"/>
            <a:ext cx="523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 new View may be created dynam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285560" y="3429000"/>
            <a:ext cx="64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Introduced in order to structure and enable 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filtering of location reporting events (</a:t>
            </a:r>
            <a:r>
              <a:rPr b="0" i="1" lang="en-IE" sz="2400" spc="-1" strike="noStrike">
                <a:solidFill>
                  <a:srgbClr val="000000"/>
                </a:solidFill>
                <a:latin typeface="Times New Roman"/>
              </a:rPr>
              <a:t>sightings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292760" y="4495680"/>
            <a:ext cx="535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Hides details of ABS hardware from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006560" y="216864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006560" y="285444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06560" y="354024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06560" y="460692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324480" y="3429000"/>
            <a:ext cx="685800" cy="272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2743920" y="609480"/>
            <a:ext cx="392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Bng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92720" y="5041800"/>
            <a:ext cx="431640" cy="749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54640" y="5176800"/>
            <a:ext cx="307800" cy="68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98880" y="5041800"/>
            <a:ext cx="430200" cy="749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059360" y="5176800"/>
            <a:ext cx="309600" cy="68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524640" y="5041800"/>
            <a:ext cx="431640" cy="749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586560" y="5176800"/>
            <a:ext cx="307800" cy="684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600880" y="2722680"/>
            <a:ext cx="49356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24360" y="2859120"/>
            <a:ext cx="4921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46760" y="299556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86280" y="4290840"/>
            <a:ext cx="862200" cy="54612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M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368960" y="2790720"/>
            <a:ext cx="861840" cy="5461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600880" y="2722680"/>
            <a:ext cx="49356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24360" y="2859120"/>
            <a:ext cx="4921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846760" y="299556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70600" y="313200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21280" y="2585880"/>
            <a:ext cx="2527200" cy="95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91000" y="2927520"/>
            <a:ext cx="863640" cy="54576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24360" y="2859120"/>
            <a:ext cx="4921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846760" y="299556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970600" y="313200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440" y="3268800"/>
            <a:ext cx="4921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24360" y="2859120"/>
            <a:ext cx="4921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846760" y="299556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70600" y="313200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91000" y="2927520"/>
            <a:ext cx="863640" cy="54576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24360" y="2859120"/>
            <a:ext cx="4921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46760" y="299556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970600" y="313200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94440" y="3268800"/>
            <a:ext cx="4921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307040" y="2722680"/>
            <a:ext cx="2527200" cy="955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614840" y="3063960"/>
            <a:ext cx="862200" cy="5461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846760" y="299556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70600" y="313200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94440" y="3268800"/>
            <a:ext cx="4921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216480" y="3405240"/>
            <a:ext cx="4939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846760" y="299556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970600" y="313200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094440" y="3268800"/>
            <a:ext cx="4921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614840" y="3063960"/>
            <a:ext cx="862200" cy="5461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846760" y="299556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970600" y="313200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440" y="3268800"/>
            <a:ext cx="4921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216480" y="3405240"/>
            <a:ext cx="4939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91000" y="2859120"/>
            <a:ext cx="2527200" cy="9558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738680" y="3200400"/>
            <a:ext cx="862200" cy="5461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970600" y="313200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94440" y="3268800"/>
            <a:ext cx="4921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216480" y="3405240"/>
            <a:ext cx="4939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340320" y="3541680"/>
            <a:ext cx="49392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70600" y="313200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440" y="3268800"/>
            <a:ext cx="4921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216480" y="3405240"/>
            <a:ext cx="4939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738680" y="3200400"/>
            <a:ext cx="862200" cy="5461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970600" y="3132000"/>
            <a:ext cx="49356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94440" y="3268800"/>
            <a:ext cx="4921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216480" y="3405240"/>
            <a:ext cx="493920" cy="272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340320" y="3541680"/>
            <a:ext cx="493920" cy="2732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648320" y="2971800"/>
            <a:ext cx="2527200" cy="95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23000" y="3200400"/>
            <a:ext cx="863280" cy="5461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View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278400" y="3063960"/>
            <a:ext cx="731880" cy="272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326360" y="2722680"/>
            <a:ext cx="1171440" cy="10238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634160" y="2790720"/>
            <a:ext cx="493920" cy="27324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634160" y="3268800"/>
            <a:ext cx="493920" cy="272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689280" y="1973160"/>
            <a:ext cx="493920" cy="409680"/>
          </a:xfrm>
          <a:prstGeom prst="ellips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5538960" y="4768920"/>
            <a:ext cx="431640" cy="2728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 flipV="1">
            <a:off x="6340320" y="4836600"/>
            <a:ext cx="370080" cy="20484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5476680" y="3678120"/>
            <a:ext cx="617400" cy="61272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 flipV="1">
            <a:off x="5416200" y="3949560"/>
            <a:ext cx="492120" cy="4096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 flipV="1">
            <a:off x="5600520" y="3949560"/>
            <a:ext cx="431640" cy="40968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 flipV="1">
            <a:off x="3428640" y="4571640"/>
            <a:ext cx="1987560" cy="46980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 flipV="1">
            <a:off x="3276720" y="4571640"/>
            <a:ext cx="914400" cy="5014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230800" y="2382840"/>
            <a:ext cx="123840" cy="81756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5538600" y="2382840"/>
            <a:ext cx="431640" cy="81756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676760" y="2382840"/>
            <a:ext cx="246240" cy="47628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98880" y="2382840"/>
            <a:ext cx="430200" cy="339840"/>
          </a:xfrm>
          <a:prstGeom prst="line">
            <a:avLst/>
          </a:prstGeom>
          <a:ln w="1908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004240" y="3132000"/>
            <a:ext cx="6192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758000" y="3132000"/>
            <a:ext cx="6192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881840" y="3132000"/>
            <a:ext cx="60480" cy="68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870520" y="3657600"/>
            <a:ext cx="136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Dynamic Reposito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318080" y="3505320"/>
            <a:ext cx="119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Static Repositor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5724360" y="3200040"/>
            <a:ext cx="554040" cy="13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5786280" y="3336840"/>
            <a:ext cx="1847880" cy="6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575480" y="52452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Poll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388640" y="4359240"/>
            <a:ext cx="149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Main Sigt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Process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265160" y="1905120"/>
            <a:ext cx="13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Observ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368960" y="1973160"/>
            <a:ext cx="492120" cy="409680"/>
          </a:xfrm>
          <a:prstGeom prst="ellips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984920" y="1973160"/>
            <a:ext cx="492120" cy="409680"/>
          </a:xfrm>
          <a:prstGeom prst="ellips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724360" y="1973160"/>
            <a:ext cx="492120" cy="409680"/>
          </a:xfrm>
          <a:prstGeom prst="ellips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505320" y="2519280"/>
            <a:ext cx="4992480" cy="0"/>
          </a:xfrm>
          <a:prstGeom prst="line">
            <a:avLst/>
          </a:prstGeom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567240" y="4973760"/>
            <a:ext cx="4992480" cy="1440"/>
          </a:xfrm>
          <a:prstGeom prst="line">
            <a:avLst/>
          </a:prstGeom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94720" y="5372280"/>
            <a:ext cx="16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66"/>
                </a:solidFill>
                <a:latin typeface="Times New Roman"/>
              </a:rPr>
              <a:t>ABng Hard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5080" y="3467160"/>
            <a:ext cx="16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66"/>
                </a:solidFill>
                <a:latin typeface="Times New Roman"/>
              </a:rPr>
              <a:t>ABng 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" y="1828800"/>
            <a:ext cx="20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ff0066"/>
                </a:solidFill>
                <a:latin typeface="Times New Roman"/>
              </a:rPr>
              <a:t>ABng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895480" y="2286000"/>
            <a:ext cx="762120" cy="22096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897280" y="3124080"/>
            <a:ext cx="68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B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250320" y="3048120"/>
            <a:ext cx="7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248520" y="3429000"/>
            <a:ext cx="761760" cy="2728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251040" y="3429000"/>
            <a:ext cx="82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Loca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8280" y="609480"/>
            <a:ext cx="192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51460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320040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43000" y="380988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449568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510552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440" y="2286000"/>
            <a:ext cx="514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Bng - A new concept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of Active Bad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software desig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5560" y="309888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System sca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080" y="370836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pplic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7720" y="4343400"/>
            <a:ext cx="206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7360" y="49528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Software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182880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9880" y="1676520"/>
            <a:ext cx="179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Bng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368360" y="609480"/>
            <a:ext cx="565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ABng system scal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9144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Communication point-point  vs.  point-multi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Evaluation of point-point communication in ABng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Multicast communication study in ABng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90720" y="190512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990720" y="297180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90720" y="396252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4191120" y="1600200"/>
            <a:ext cx="4387680" cy="45594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1978560" y="609480"/>
            <a:ext cx="492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QoS in ABng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49360" y="186372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90720" y="17524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cing interval (or burst dela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49360" y="277812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990720" y="26668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ystem scalable up to several hundred of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4238640" cy="445428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4648320" y="1447920"/>
            <a:ext cx="4086000" cy="445428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487080" y="609480"/>
            <a:ext cx="784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Influence of ORB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4191120" y="1371600"/>
            <a:ext cx="4419360" cy="4724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335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Delays in ABng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49360" y="186372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990720" y="17524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ort delays even for a large number of u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Notification systems’ r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bserver-observed sch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gical separation of events’ producers and consu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pecialised notification services instead of   ad-hoc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213372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" y="281952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5800" y="380988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Event Channel (EC)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914400" y="1523880"/>
          <a:ext cx="7478640" cy="437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23880"/>
                    <a:ext cx="7478640" cy="437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26" name="logo" descr=""/>
          <p:cNvPicPr/>
          <p:nvPr/>
        </p:nvPicPr>
        <p:blipFill>
          <a:blip r:embed="rId3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EC internal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0" name=""/>
          <p:cNvGraphicFramePr/>
          <p:nvPr/>
        </p:nvGraphicFramePr>
        <p:xfrm>
          <a:off x="914400" y="1523880"/>
          <a:ext cx="7162920" cy="458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23880"/>
                    <a:ext cx="7162920" cy="45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2" name="logo" descr=""/>
          <p:cNvPicPr/>
          <p:nvPr/>
        </p:nvPicPr>
        <p:blipFill>
          <a:blip r:embed="rId3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35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EC performance stu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33520" y="16765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Event Channels: typed and untyp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3962520" y="1447920"/>
            <a:ext cx="4647960" cy="449568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533520" y="182880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logo" descr=""/>
          <p:cNvPicPr/>
          <p:nvPr/>
        </p:nvPicPr>
        <p:blipFill>
          <a:blip r:embed="rId2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3809880" y="1447920"/>
            <a:ext cx="4848480" cy="455760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5335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Multicast systems’ scal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49360" y="186372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990720" y="17524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int-to-point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49360" y="277812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990720" y="26668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ulticast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12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EC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Event Channel implementation in C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2 ORB-s: OmniORB i Orb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3 operating systems: Solaris, Linux, 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Sample clients in 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38080" y="236232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38080" y="297180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38080" y="358128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38080" y="419112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89640" y="380880"/>
            <a:ext cx="687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eople involved in ABng pro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79200" y="1133640"/>
            <a:ext cx="244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From the O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54800" y="2276640"/>
            <a:ext cx="26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From the UM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1676520"/>
            <a:ext cx="158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Frazer Ben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Pete Steg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7800" y="2895480"/>
            <a:ext cx="27136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Igor Bok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Łukasz Czekier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Jacek Długopols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Andrzej Kró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Aleksander Laurentows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Daniel Mencnarows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Tomasz Moj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Piotr Nawroc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Małgorzata Stei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Jakub Szymasz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Andrzej Usz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Krzysztof Zielińs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Times New Roman"/>
              </a:rPr>
              <a:t>Sławomir Zielińs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1752480"/>
            <a:ext cx="152640" cy="15264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152640" cy="1522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2971800"/>
            <a:ext cx="152640" cy="1522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81080" y="3276720"/>
            <a:ext cx="152640" cy="1522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3581280"/>
            <a:ext cx="152640" cy="15264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81080" y="3809880"/>
            <a:ext cx="152640" cy="15264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81080" y="4114800"/>
            <a:ext cx="152640" cy="1522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81080" y="4419720"/>
            <a:ext cx="152640" cy="1522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81080" y="4724280"/>
            <a:ext cx="152640" cy="15264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81080" y="4952880"/>
            <a:ext cx="152640" cy="15264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5257800"/>
            <a:ext cx="152640" cy="1522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486400"/>
            <a:ext cx="152640" cy="1522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981080" y="5791320"/>
            <a:ext cx="152640" cy="1522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81080" y="6019920"/>
            <a:ext cx="152640" cy="1522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81080" y="6248520"/>
            <a:ext cx="152640" cy="15228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990720" y="5791320"/>
            <a:ext cx="3809880" cy="6094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029200" y="1143000"/>
            <a:ext cx="37339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029200" y="4038480"/>
            <a:ext cx="3657600" cy="160020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990720" y="4038480"/>
            <a:ext cx="3809880" cy="1600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990720" y="1143000"/>
            <a:ext cx="3809880" cy="266688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206440" y="304920"/>
            <a:ext cx="436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ABng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1217160" y="1066680"/>
            <a:ext cx="3376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ab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J)abng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J)abngvis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i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btr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re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Bng PBX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perty Record Re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udio Device Re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ll Redirection M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Bng book library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255280" y="4267080"/>
            <a:ext cx="33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ther Repositor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cation Aware Re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ime Event Reposi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256360" y="1295280"/>
            <a:ext cx="26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pository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3962520" y="4572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Jabb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jabba_sh4" descr=""/>
          <p:cNvPicPr/>
          <p:nvPr/>
        </p:nvPicPr>
        <p:blipFill>
          <a:blip r:embed="rId2"/>
          <a:stretch/>
        </p:blipFill>
        <p:spPr>
          <a:xfrm>
            <a:off x="762120" y="1465200"/>
            <a:ext cx="771516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274320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478" name="abngpbx_s" descr=""/>
          <p:cNvPicPr/>
          <p:nvPr/>
        </p:nvPicPr>
        <p:blipFill>
          <a:blip r:embed="rId2"/>
          <a:stretch/>
        </p:blipFill>
        <p:spPr>
          <a:xfrm>
            <a:off x="838080" y="3352680"/>
            <a:ext cx="4657680" cy="243360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1523880" y="3048120"/>
            <a:ext cx="327672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828800" y="3581280"/>
            <a:ext cx="106668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676520" y="3505320"/>
            <a:ext cx="2743200" cy="22860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905120" y="3581280"/>
            <a:ext cx="152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C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Redi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040280" y="3505320"/>
            <a:ext cx="38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3333cc"/>
                </a:solidFill>
                <a:latin typeface="Times New Roman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3333cc"/>
                </a:solidFill>
                <a:latin typeface="Times New Roman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286000" y="2209680"/>
            <a:ext cx="1143000" cy="838440"/>
          </a:xfrm>
          <a:prstGeom prst="ellips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971800" y="2514600"/>
            <a:ext cx="1143000" cy="838080"/>
          </a:xfrm>
          <a:prstGeom prst="ellips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048120" y="1828800"/>
            <a:ext cx="1143000" cy="838080"/>
          </a:xfrm>
          <a:prstGeom prst="ellips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657600" y="2133720"/>
            <a:ext cx="1143000" cy="838080"/>
          </a:xfrm>
          <a:prstGeom prst="ellips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181480" y="1600200"/>
            <a:ext cx="2895840" cy="2514600"/>
          </a:xfrm>
          <a:prstGeom prst="rect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320800" y="156528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3399"/>
                </a:solidFill>
                <a:latin typeface="Times New Roman"/>
              </a:rPr>
              <a:t>AB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172200" y="1752480"/>
            <a:ext cx="106668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172200" y="2362320"/>
            <a:ext cx="106668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72200" y="2971800"/>
            <a:ext cx="106668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2438280" y="312408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4800600" y="2057400"/>
            <a:ext cx="1371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251040" y="2971800"/>
            <a:ext cx="98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Loc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Aware R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253200" y="1752480"/>
            <a:ext cx="108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Property R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R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250680" y="2362320"/>
            <a:ext cx="1009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Audio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R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705720" y="2209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4800600" y="2590920"/>
            <a:ext cx="13716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126600" y="2362320"/>
            <a:ext cx="94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OR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668320" y="31240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243400" y="20415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767280" y="219384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411520" y="26668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881080" y="31845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705720" y="35053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705720" y="365760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705720" y="38098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202920" y="380880"/>
            <a:ext cx="250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Bng PB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274320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2515320" y="380880"/>
            <a:ext cx="402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Bng book libr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library" descr=""/>
          <p:cNvPicPr/>
          <p:nvPr/>
        </p:nvPicPr>
        <p:blipFill>
          <a:blip r:embed="rId2"/>
          <a:stretch/>
        </p:blipFill>
        <p:spPr>
          <a:xfrm>
            <a:off x="3355920" y="1143000"/>
            <a:ext cx="3730680" cy="500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5" name="library-s" descr=""/>
          <p:cNvPicPr/>
          <p:nvPr/>
        </p:nvPicPr>
        <p:blipFill>
          <a:blip r:embed="rId3"/>
          <a:stretch/>
        </p:blipFill>
        <p:spPr>
          <a:xfrm>
            <a:off x="1755720" y="2286000"/>
            <a:ext cx="2590920" cy="259092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54160" y="609480"/>
            <a:ext cx="508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ABng</a:t>
            </a:r>
            <a:r>
              <a:rPr b="1" lang="en-IE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2280600" y="1676520"/>
            <a:ext cx="4024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ttp://ww.cs.agh.edu.pl/ABn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dmin and Users’ Gu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ap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Bng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D -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eb site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ource code of ABng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ver OmniOR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828800" y="472428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828800" y="175248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3202920" y="609480"/>
            <a:ext cx="215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066680" y="190512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066680" y="297180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066680" y="403848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066680" y="556272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589760" y="1752480"/>
            <a:ext cx="6833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ern object oriented distributed software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B System has been successfully implemen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system has been built around an event-dr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el that used the observer-observed design patter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tification mechanisms of remote events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ments of QoS  scales well up to a few hund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bserv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ry large systems must exploit a notification serv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ilt on top of multicast protoc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1219320" y="205740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821680" y="609480"/>
            <a:ext cx="328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ummary co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51680" y="1870200"/>
            <a:ext cx="655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pository of observable entities concept is eleg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provides powerful mechanisms for many AB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plications. It makes possible to use practically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ctive database id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11720" y="533520"/>
            <a:ext cx="39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71160" y="1793880"/>
            <a:ext cx="66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l abstract and physical components are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y CORBA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tities of the same type are stored in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system both single entities and repositorie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bserv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notification purposes the observer-observ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sign pattern is explo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594640" y="400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190512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4400" y="297180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88620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4876920"/>
            <a:ext cx="228600" cy="2286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5520" y="434880"/>
            <a:ext cx="844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Bng - A new concept</a:t>
            </a: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 of Active Badg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System desig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43120" y="2819520"/>
            <a:ext cx="61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 template for 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positor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ies of observable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45280" y="373392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Light-weight notification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76880" y="464832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 concept of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92104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474984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71600" y="383544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387440" y="201600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21240" y="1905120"/>
            <a:ext cx="61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w robust plug-and-play poller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35520" y="434880"/>
            <a:ext cx="8445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Bng - A new concept</a:t>
            </a: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 of Active Badg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Times New Roman"/>
              </a:rPr>
              <a:t>System desig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43120" y="2819520"/>
            <a:ext cx="61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 template for 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positor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ies of observable ent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45280" y="373392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Light-weight notification mechan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76880" y="4648320"/>
            <a:ext cx="256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 concept of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292104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474984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383544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387440" y="201600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21240" y="1905120"/>
            <a:ext cx="616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w robust plug-and-play poller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1828800"/>
            <a:ext cx="7391520" cy="685800"/>
          </a:xfrm>
          <a:prstGeom prst="rect">
            <a:avLst/>
          </a:prstGeom>
          <a:noFill/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049560" y="609480"/>
            <a:ext cx="273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Bng Poll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oller-front" descr=""/>
          <p:cNvPicPr/>
          <p:nvPr/>
        </p:nvPicPr>
        <p:blipFill>
          <a:blip r:embed="rId2"/>
          <a:stretch/>
        </p:blipFill>
        <p:spPr>
          <a:xfrm>
            <a:off x="304920" y="1600200"/>
            <a:ext cx="3063600" cy="3962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5" name=""/>
          <p:cNvSpPr/>
          <p:nvPr/>
        </p:nvSpPr>
        <p:spPr>
          <a:xfrm>
            <a:off x="3581280" y="198108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81280" y="259092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342900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403848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81280" y="480060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581280" y="533412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85480" y="1828800"/>
            <a:ext cx="43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C/104-based Network 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83320" y="2438280"/>
            <a:ext cx="502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Up to 6 RS-422/RS-232 serial inter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to connect sen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85840" y="3276720"/>
            <a:ext cx="380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owered by LinuxPiccolo 5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77200" y="3886200"/>
            <a:ext cx="529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Main application: </a:t>
            </a:r>
            <a:r>
              <a:rPr b="0" i="1" lang="en-IE" sz="2400" spc="-1" strike="noStrike">
                <a:solidFill>
                  <a:srgbClr val="000000"/>
                </a:solidFill>
                <a:latin typeface="Times New Roman"/>
              </a:rPr>
              <a:t>abngpoller -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multi-lin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multi-protocol, multithreaded p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86200" y="464832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omniORB in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83320" y="5181480"/>
            <a:ext cx="49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Easy LCD console-based 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40" name="lcd-console-s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207792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1526400" y="609480"/>
            <a:ext cx="585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Bng Poller - LCD cons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95480" y="262260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1200" y="2470320"/>
            <a:ext cx="52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4x16 characters LCD display + key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315612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10760" y="3003480"/>
            <a:ext cx="47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RS-232 communication with the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416880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10040" y="3689280"/>
            <a:ext cx="482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Flexible - console can be used for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configuration of any device - not j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Bng poll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819520" y="6553080"/>
            <a:ext cx="3352680" cy="30492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43200" y="0"/>
            <a:ext cx="33526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logo" descr=""/>
          <p:cNvPicPr/>
          <p:nvPr/>
        </p:nvPicPr>
        <p:blipFill>
          <a:blip r:embed="rId1"/>
          <a:stretch/>
        </p:blipFill>
        <p:spPr>
          <a:xfrm>
            <a:off x="8610480" y="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51" name="webadmin" descr=""/>
          <p:cNvPicPr/>
          <p:nvPr/>
        </p:nvPicPr>
        <p:blipFill>
          <a:blip r:embed="rId2"/>
          <a:stretch/>
        </p:blipFill>
        <p:spPr>
          <a:xfrm>
            <a:off x="457200" y="1500120"/>
            <a:ext cx="3898800" cy="3986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1068480" y="533520"/>
            <a:ext cx="703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Bng Poller - Webadmin modu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241452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939200" y="1752480"/>
            <a:ext cx="408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LCD console is used to sup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basic network parametrs. 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further configuration can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done via the Webadmi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24280" y="487692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938480" y="4724280"/>
            <a:ext cx="40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Module still under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350532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45320" y="3352680"/>
            <a:ext cx="14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CGI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4106880"/>
            <a:ext cx="22860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41720" y="3809880"/>
            <a:ext cx="389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pache http server running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Bng p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7T18:23:37Z</dcterms:created>
  <dc:creator>K.Z.</dc:creator>
  <dc:description/>
  <dc:language>en-US</dc:language>
  <cp:lastModifiedBy>Pawel Rzepa</cp:lastModifiedBy>
  <cp:lastPrinted>1999-07-14T10:54:47Z</cp:lastPrinted>
  <dcterms:modified xsi:type="dcterms:W3CDTF">1999-07-14T14:35:00Z</dcterms:modified>
  <cp:revision>66</cp:revision>
  <dc:subject/>
  <dc:title>Bez tytułu slajdu</dc:title>
</cp:coreProperties>
</file>