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55C-E43D-4D14-AB1B-6DC33D08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8BA-6B1A-4B9F-BF80-BB6D8E7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4C4-A7AF-4CAA-AB55-74581DF0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C71-4B1A-4CF5-9618-7FF25A4E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9728-9F85-4A93-B5EB-F674880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F8CE-8756-4105-BD1E-87AFEEE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FA6A-A43F-4811-A253-05A4771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121A-F5EB-4A5A-8D7F-03095906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F62-3D6C-4265-A84A-7E65E0CD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686-7A17-4537-A688-2BC4C54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4CB-98C2-464D-9C27-7B79AAC6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3AA-33A1-42F0-917C-A913779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2A68-0E02-4431-8B9C-5EBFE4E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BBD1-34A3-4205-ABDA-9092AC2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3420-890F-4F06-8E45-A5885835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064F-323B-46C7-81E0-6814DE4A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480-1D78-4E5D-BEF9-9211DD9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28E-FFF5-4139-ABF6-9F0F09F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9D6-81B0-4B61-BEF2-3E79A99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7BE-B5BA-4397-99DA-12B764D2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345-6BB5-459A-BC85-D17EB68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AFD-FC69-4389-B829-2F49C34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8F3-5898-4D34-9F6D-8481EA8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5D3-D3FF-47F4-8510-8F99430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690-EAE3-4211-B560-3FBA42143A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76D-AE6B-47F5-86EE-EA8B290870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../../../..../classes/" TargetMode="External"/><Relationship Id="rId4" Type="http://schemas.openxmlformats.org/officeDocument/2006/relationships/hyperlink" Target="http://myserver:8080/archiwum.jar" TargetMode="External"/><Relationship Id="rId5" Type="http://schemas.openxmlformats.org/officeDocument/2006/relationships/hyperlink" Target="ftp://ftp.server/classes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java.sun.com/j2se/1.4/docs/%0Btooldocs/solaris/rmid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boratorium RMI cz.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Dominik Radziszowski,</a:t>
            </a:r>
            <a:br>
              <a:rPr sz="3200"/>
            </a:b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Sławomir Zielińsk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Zmiany w NoteBoardIm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Dodatkowy konstruktor – wywoływany przez RMI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publi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NoteBoardImpl(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ID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id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MarshalledObject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data 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throw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RemoteException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	</a:t>
            </a: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Rejestrujemy się w „activation system”</a:t>
            </a:r>
            <a:br>
              <a:rPr sz="1800"/>
            </a:b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i eksportujemy referencję na anonimowym porc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able.exportObject(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this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id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0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a rejestrująca serwer -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publi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stati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void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main(String[]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rgs)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throw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RMISecurityManager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ertie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s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erties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props.put(</a:t>
            </a:r>
            <a:r>
              <a:rPr b="0" lang="pl-PL" sz="1800" spc="-1" strike="noStrike">
                <a:solidFill>
                  <a:srgbClr val="2a00ff"/>
                </a:solidFill>
                <a:latin typeface="Courier New"/>
              </a:rPr>
              <a:t>"java.security.policy"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2a00ff"/>
                </a:solidFill>
                <a:latin typeface="Courier New"/>
              </a:rPr>
              <a:t>"~/javaAll.policy"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Tworzymy środowisko uruchomieniowe dla NoteBoa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Desc.CommandEnvironment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e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Desc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exampleGroup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br>
              <a:rPr sz="1800"/>
            </a:br>
            <a:r>
              <a:rPr b="1" lang="pl-PL" sz="18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Desc(props,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e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f7f5f"/>
                </a:solidFill>
                <a:latin typeface="Courier New"/>
              </a:rPr>
              <a:t>// Rejestrujemy utworzone środowisk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ID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gi</a:t>
            </a: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ActivationGroup.getSystem().registerGroup(exampleGroup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a rejestrująca serwer 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Miejsce przechowywania naszych kl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file:~/dydakt/lab2/serwer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MarshalledObject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ctivationDesc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desc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ctivationDes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(agi,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agh.rozproszone.NoteBoardImpl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location,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data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lasa rejestrująca serwer -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Rejestrujemy się w RMID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NoteBoard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ri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(NoteBoard)Activatable.register(desc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Efekt rejestracji „aktywujący” stu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Naming.rebind(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NoteBoard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pl-PL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ari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pl-PL" sz="2000" spc="-1" strike="noStrike">
                <a:solidFill>
                  <a:srgbClr val="2a00ff"/>
                </a:solidFill>
                <a:latin typeface="Courier New"/>
              </a:rPr>
              <a:t>"Exported NoteBoard"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f7f5f"/>
                </a:solidFill>
                <a:latin typeface="Courier New"/>
              </a:rPr>
              <a:t>// i tyle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 dzieła!!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oteBoardImpl – zmienic implementac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ctivationSetup – stworzyc programi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Rozbudowujemy naszą aplikację – wersja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~/student-426/[nazwisko]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opiować kod klienta: ~/lab1/klient/*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ruchomić (localhost, port 4260+num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O co nam chodz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Chcemy wykorzystać możliwość dynamicznego</a:t>
            </a:r>
            <a:br>
              <a:rPr sz="2800"/>
            </a:b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oładowywania stubów przez klien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ynamiczne ładowanie k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rmiregistry: poza referencją przechowuje informacje gdzie można znaleźć pliki .cla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java –Djava.rmi.server.codebase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file://c:/...../classes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myserver:8080/archiwum.ja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ftp://ftp.server/classes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Kl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lasy lokalne są ładowane w pierwszej kolejności – usunąć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Musimy zainicjować security manag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Djava.security.manag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Djava.security.poli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Rozbudowujemy naszą aplikację – wersja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Co zmieniam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lient nie ma stubów obiektów serwera</a:t>
            </a:r>
            <a:br>
              <a:rPr sz="2400"/>
            </a:b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 zmiennej CLASSPA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ŁASNE MA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Konfigurujemy parametry uruchomien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klienta: -Djava.security.policy=policy.a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erwera: -Djava.rmi.server.codebase=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 oznaczonym miejscu umieszczamy stuby obiektów serwe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 naszym przypadku tylko obiektu NoteBoardImp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ruchomien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miregist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rmiregistry –J-Djava.security.policy=~/javaAll.polic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erwer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va 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-Djava.rmi.server.codebase=file:/home/jasmin/llsr/lab2/serwer/ -Djava.security.policy=/home/jasmin/llsr/javaAll.poli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gh.rozproszone.NoteBoardServ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Klient: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java 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Djava.security.manager</a:t>
            </a:r>
            <a:br>
              <a:rPr sz="2000"/>
            </a:b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Djava.security.policy=/home/jasmin/llsr/javaAll.poli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gh.rozproszone.NoteBoardCli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waga na „/” na końcu ścieże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7621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 to siup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ak uczynić serwer dynamicznym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Co zmieniam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nie posiada stubów klas klien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może korzystać z RMI Class Loade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Czego nie zmieniam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jest uruchamiany wcześniej, niż kl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Co zyskujem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erwer jest mniej uzależniony od zmian</a:t>
            </a:r>
            <a:br>
              <a:rPr sz="2800"/>
            </a:b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 kliencie (i vice vers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NoteBoard v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600200"/>
            <a:ext cx="274320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057400"/>
            <a:ext cx="16761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imes New Roman"/>
              </a:rPr>
              <a:t>NoteBoardImp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2720160" y="2079360"/>
            <a:ext cx="114300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imes New Roman"/>
              </a:rPr>
              <a:t>NoteBoar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200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NoteBoardServ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438640" cy="1981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2057400"/>
            <a:ext cx="2590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1828800"/>
            <a:ext cx="167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register()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unRegister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appendText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1676520"/>
            <a:ext cx="243828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1828800"/>
            <a:ext cx="2438280" cy="1981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2666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NoteBoardCl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3429000"/>
            <a:ext cx="2210040" cy="152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438280"/>
            <a:ext cx="1447560" cy="990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362320"/>
            <a:ext cx="457200" cy="1143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2514600"/>
            <a:ext cx="457200" cy="11430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5672880" y="2947320"/>
            <a:ext cx="1141560" cy="58068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imes New Roman"/>
              </a:rPr>
              <a:t>NoteBoardListen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2438280"/>
            <a:ext cx="144756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438280"/>
            <a:ext cx="1447560" cy="11430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3581280"/>
            <a:ext cx="236232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276720"/>
            <a:ext cx="2057400" cy="1522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809880"/>
            <a:ext cx="845820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Tak jak poprzednio tylk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onNewText(Note note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ublic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class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ote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implements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erializable{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 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rivate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ring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ublic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Note(String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)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this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.text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=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;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public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tring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oString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{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1" lang="pl-PL" sz="1800" spc="-1" strike="noStrike">
                <a:solidFill>
                  <a:srgbClr val="7f0055"/>
                </a:solidFill>
                <a:latin typeface="Courier New"/>
                <a:ea typeface="Arial Unicode MS"/>
              </a:rPr>
              <a:t>return</a:t>
            </a:r>
            <a:r>
              <a:rPr b="0" lang="pl-PL" sz="1800" spc="-1" strike="noStrike">
                <a:solidFill>
                  <a:srgbClr val="303030"/>
                </a:solidFill>
                <a:latin typeface="Courier New"/>
                <a:ea typeface="Arial Unicode MS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text;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25000" y="3249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58c"/>
                </a:solidFill>
                <a:latin typeface="Tahoma"/>
              </a:rPr>
              <a:t>onNewText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5000" y="548640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 to siup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SecurityManag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amiast: -Djava.security.manag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f7f5f"/>
                </a:solidFill>
                <a:latin typeface="Courier New"/>
              </a:rPr>
              <a:t>//security manage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7f0055"/>
                </a:solidFill>
                <a:latin typeface="Courier New"/>
              </a:rPr>
              <a:t>if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(System.getSecurityManager()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pl-PL" sz="1600" spc="-1" strike="noStrike">
                <a:solidFill>
                  <a:srgbClr val="7f0055"/>
                </a:solidFill>
                <a:latin typeface="Courier New"/>
              </a:rPr>
              <a:t>null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r>
              <a:rPr b="1" lang="pl-PL" sz="1600" spc="-1" strike="noStrike">
                <a:solidFill>
                  <a:srgbClr val="7f0055"/>
                </a:solidFill>
                <a:latin typeface="Courier New"/>
              </a:rPr>
              <a:t>new</a:t>
            </a:r>
            <a:r>
              <a:rPr b="0" lang="pl-PL" sz="16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RMISecurityManag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lik polic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grant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security.AllPermission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}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grant {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net.SocketPermission "*:1024-65535", "connect,accept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net.SocketPermission "*:80", "connect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}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grant codeBase "file:${java.home}/lib/-" {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permission java.lang.RuntimePermission "loadLibrary.*";    permission java.lang.RuntimePermission "accessClassInPackage.*";    permission java.lang.RuntimePermission "queuePrintJob"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0066"/>
                </a:solidFill>
                <a:latin typeface="Tahoma"/>
              </a:rPr>
              <a:t>Activation – jak tego użyć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Dodatkowy konstruktor </a:t>
            </a:r>
            <a:br>
              <a:rPr sz="3200"/>
            </a:b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w NoteBoardIm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arametry: ActivationID, Marshalled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Modyfikacja klasy NoteBoardServ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rmid: </a:t>
            </a:r>
            <a:r>
              <a:rPr b="0" lang="pl-PL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java.sun.com/j2se/1.4/docs/_x000b_tooldocs/solaris/rmid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58c"/>
                </a:solidFill>
                <a:latin typeface="Tahoma"/>
              </a:rPr>
              <a:t>rmiregistr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09:57:13Z</dcterms:created>
  <dc:creator>Dominik Radziszowski</dc:creator>
  <dc:description/>
  <dc:language>en-US</dc:language>
  <cp:lastModifiedBy>MJ</cp:lastModifiedBy>
  <dcterms:modified xsi:type="dcterms:W3CDTF">2005-04-11T09:07:20Z</dcterms:modified>
  <cp:revision>54</cp:revision>
  <dc:subject/>
  <dc:title>Laboratorium RMI</dc:title>
</cp:coreProperties>
</file>