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5BD-F50C-4CFE-8393-BC769D97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F3C-F798-4010-9C60-6A201C5A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15E-310B-4783-BF4C-EB55DDB8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6E3-CE23-448E-BF43-5B58CEB6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FD3-12E9-4826-98AC-E13A0EAC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EED-1EDD-4029-9B2B-5FB95D51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003-D800-407F-90B5-A0C6D61C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7BB-67D4-4812-B64D-D599D289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80D-F0E9-4E1F-A5ED-13AC9F9E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A80-9833-4022-B1A0-E3DC648F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8A5-70D1-4AC9-8A85-82103C4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BBB-013B-43AC-895A-BCBC3C5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913F-8AB4-4B5F-AE1C-EC741DC52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hyperlink" Target="C:\WINDOWS\rundll32.exe amovie.ocx,RunDll /play /close c:\home\bokun\sun\sun.mp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SPM - Wirtualny System Plików Multimedialnych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7320" y="4937040"/>
            <a:ext cx="7642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gor BOKUN, Stanisław STRELNIK, Krzysztof ZIELIŃS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tedra Informatyk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kademia Górniczo-Hutni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04040"/>
            <a:ext cx="746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oczęcie transmisji wybranego filmu do wybraneg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biorcy. Aby możliwa była transmisja, film musi być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mieszczony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tawienie nowego pliku MPEG do WSPM. Źródł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mienia MPEG podawane jako paramert op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ądanie przygotowania filmu do odtwarzania na określony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eń/godzin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odsyłacza do danego 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odsyłacza i ewentualne fizyczne usunięcie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d, mkdi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eracje na drzewie katalog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lock, unloc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blokowanie filmu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147760"/>
            <a:ext cx="7673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 realizację operacji odpowiedzialny jest moduł managera żą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zapewnia optymalną dystrybucję dokumentów multimedialnych w przypadku występowania wielu video-serwe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uje listę żadań, starając się zapewnić realizację wszystkich zleconych za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stnieje możliwość administracyjnej zmiany priorytetu poszczególnych film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liwość wyboru funkcji prioryte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lini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funkcja priorytetu arcus tan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skok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2133720"/>
          <a:ext cx="3905280" cy="36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3720"/>
                    <a:ext cx="39052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005200"/>
            <a:ext cx="693432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stem przeszedł fazę implementacji. Wykonane zostały pierwsze testy, jednak niezbędne jest dokonanie obszernych testów celem ustalenia optymalnych parametrów pracy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stały zaimplementowane pierwsze aplikacje w języku Java wykorzystające Java MediaFramework oraz WS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osowanie technologii CORBA umożliwiło integrację wielu odmiennych środowisk programowania oraz protokołów sterowania urządzeniami. jak również ułatwiło realizację projektu przez niezależne grup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wają prace nad implementacją mechanizmów zwiększających bezpieczeństwo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5640" y="2361960"/>
            <a:ext cx="47242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latforma sprzętow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refer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019600"/>
            <a:ext cx="707364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jednolitej z punktu widzenia użytkownika przestrzeni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tomatyczne zarządzanie dokumentami przechowywanymi w syste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dużych ilości dokumentów multimedialnych - kilkaset pełnometrażowych film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kalowalność oraz możliwość adaptacji systemu do nowych rozwiązań sprzęt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interfejs umożliwiający tworzenie aplikacji-klientów w wizualnych środowiskach programowania, takich jak n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ymantec Visual C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2160" y="1676520"/>
            <a:ext cx="351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un Media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c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936800" cy="1486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85800" y="4495320"/>
            <a:ext cx="70866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ły programowe wykorzystywane w proje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Content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wprowadzanie plików MPEG do multimedialnego systemu plików 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Stream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odtwarzanie przechowywanych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20932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dware, system operacyjny, system plików specjalizowany do zastosowań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cierz dyskowa o dużej pojemności - 50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plików w standardzie MPEG-1 oraz MPEG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terfejsy Ethernet 100 Mb, ATM, analogowy - telewizja kabl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4648320"/>
            <a:ext cx="6361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676520"/>
            <a:ext cx="512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bot taśmowy ACL 26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cl2640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38140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69000" y="2361600"/>
            <a:ext cx="439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ałkowita 2.64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pustowość biblioteki - 13.5 GB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 niezależne napędy taś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64 taśm o pojemności 10 GB każ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ędkość transmisji pojedyncz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czytnika- 1.25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 kasety - Compac Tap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952520"/>
            <a:ext cx="388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y dostępu do bibliot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 u="sng">
                <a:solidFill>
                  <a:srgbClr val="00ff00"/>
                </a:solidFill>
                <a:uFillTx/>
                <a:latin typeface="Times New Roman"/>
              </a:rPr>
              <a:t>File Transfer Protocol (F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Network File System (N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160" y="2286000"/>
            <a:ext cx="266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Point 6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57240"/>
            <a:ext cx="792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zętowy koder MPEG-1wyposażony w interfejs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resja w czasie rzeczywistym ze stałym opóźnieniem rzędu 1 s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iwane rozdzielczości: 352x288 (SIF) lub 176x144 (QS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42040" y="5105160"/>
            <a:ext cx="5220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 sterowania urządzen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pen Media Device Control Interface (OMD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toczka obiektowa CORBA na bazie OMD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676520"/>
          <a:ext cx="3962520" cy="180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76520"/>
                    <a:ext cx="3962520" cy="18032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676520"/>
            <a:ext cx="6485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nfiguracja sieci komputerowej wykorzystywanej do testów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95280" y="2971800"/>
          <a:ext cx="651204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971800"/>
                    <a:ext cx="651204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71600" y="1981080"/>
          <a:ext cx="5904000" cy="39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59040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Architektura głównego serwer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19320" y="2362320"/>
          <a:ext cx="6659280" cy="29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362320"/>
                    <a:ext cx="66592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AGH</dc:creator>
  <dc:description/>
  <dc:language>en-US</dc:language>
  <cp:lastModifiedBy>K.Z.</cp:lastModifiedBy>
  <cp:lastPrinted>1998-03-16T08:12:04Z</cp:lastPrinted>
  <dcterms:modified xsi:type="dcterms:W3CDTF">1998-09-18T18:33:17Z</dcterms:modified>
  <cp:revision>81</cp:revision>
  <dc:subject/>
  <dc:title>Narzêdzie do testowania</dc:title>
</cp:coreProperties>
</file>